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8.jpeg" ContentType="image/jpeg"/>
  <Override PartName="/ppt/media/image34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0.jpeg" ContentType="image/jpeg"/>
  <Override PartName="/ppt/media/image13.jpeg" ContentType="image/jpeg"/>
  <Override PartName="/ppt/media/image33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43.png" ContentType="image/png"/>
  <Override PartName="/ppt/media/image8.png" ContentType="image/png"/>
  <Override PartName="/ppt/media/image39.jpeg" ContentType="image/jpeg"/>
  <Override PartName="/ppt/media/image14.jpeg" ContentType="image/jpeg"/>
  <Override PartName="/ppt/media/image41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40FB-E8D8-4C6A-A1B2-C8430F42F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254A-F64C-455F-B2BB-5ACF036F3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9EF6-12BC-4790-BADC-F0AC21EA3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D8DE-6086-481D-9629-CCA4DA516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8E7D-C2C8-4291-902A-1D19DB0E4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F66A-AC67-4FB8-808D-9B880380E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4FE1-D789-474B-B3F4-215DFC4BD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6F61-E250-41EF-A006-FAA5DD924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2682-1C70-417D-BE92-7899CD095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5BCF-A29A-4704-9FC7-B66B66B3F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782A-D2DF-4DB4-B213-737196779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F954-E024-4F32-9E81-211D0A4CA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AAA9-3C29-4CD4-BE12-80385B0F6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7168-0EDB-4C27-9856-4DC0A612E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869B-409E-4186-803B-3BC9AE027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39B2-7391-47B2-9CEC-E80F2A41D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4C62-C504-438E-9A81-9192467B9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A9B2-8A50-4445-9480-BE95151FE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0C6E-5B3F-4502-ABEF-5F20737E5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97C1-9DCE-4EDA-94D7-3CB6E159E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473F-82B4-4351-9722-46DE0B880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BF20-30A2-4890-858D-09E265180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2D6F-02D9-402E-BF9A-137C17440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EDBE-B3CF-4FE5-B48C-8069F62C4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66AF-DBAF-4BC2-A2BA-982909A3C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29FA-782A-44BC-9EB4-A1DE66C21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5138-15CD-4245-A4D6-E850F8269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A9C9-09F5-4FB6-95D9-E72738FE0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19D1-F824-45B4-B0F8-F43ADBEAA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4A40-A1CA-4235-B13E-C90A42533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58FE-FA79-472B-AD2F-81F8FC18D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5945-E8D8-4BEC-A4DC-2C0589CC6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5927-90EB-4ADD-90A9-DB24700A1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CFF0-1AA9-4B52-8376-F45DF8DA6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0D0F-CE1C-4E65-8AF4-A89316E97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7DB9-29F9-44E1-B7F2-7215CCB84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C35F-852F-4AF3-A94B-2A67130C7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2BEF-4319-4494-B4D3-E3B832DDC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965A-80C7-4D63-9BEF-5DAE6622B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9538-0CD5-4D03-BC5B-AFF416DE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381D-7B41-4504-B43F-78824AE56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B979-4D43-4049-8DAE-D7C992A10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1757-8C8C-46CA-92D7-260524BD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8B6D-CF76-4782-8D5C-6BB1D146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B7E4-644D-46EC-9A71-0D44D6D7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D9EB-9944-4AE8-B98E-69A42BE7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8E86-EFD9-4EF3-8FA0-10D841C3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FAF4-BE30-4B8A-9ADC-04393351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660F-5C92-4C2B-A460-BAD205BE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A672-1868-4DC8-B8EE-39454987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2010 Beyond Benign, All Rights 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B670-4326-48F5-9DE5-887F2C63C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hyperlink" Target="http://en.wikipedia.org/wiki/Time_Magazine" TargetMode="External"/><Relationship Id="rId4" Type="http://schemas.openxmlformats.org/officeDocument/2006/relationships/hyperlink" Target="http://muzul.com/celebrity/salma-hayek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en.wikipedia.org/wiki/Council_of_Fashion_Designers_of_America" TargetMode="External"/><Relationship Id="rId3" Type="http://schemas.openxmlformats.org/officeDocument/2006/relationships/hyperlink" Target="http://en.wikipedia.org/wiki/Alexandria_Hilfiger" TargetMode="External"/><Relationship Id="rId4" Type="http://schemas.openxmlformats.org/officeDocument/2006/relationships/hyperlink" Target="http://en.wikipedia.org/wiki/MTV" TargetMode="External"/><Relationship Id="rId5" Type="http://schemas.openxmlformats.org/officeDocument/2006/relationships/hyperlink" Target="http://en.wikipedia.org/wiki/Reality_show" TargetMode="External"/><Relationship Id="rId6" Type="http://schemas.openxmlformats.org/officeDocument/2006/relationships/hyperlink" Target="http://en.wikipedia.org/wiki/Rich_Girls" TargetMode="External"/><Relationship Id="rId7" Type="http://schemas.openxmlformats.org/officeDocument/2006/relationships/hyperlink" Target="http://www.nydailynews.com/life-style/real-estate/poor-housing-markets-costs-fashion-mogul-tommy-hilfiger-millions-connecticut-estate-article-1.417618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739nyesplace.com/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163337020_17407ab9a0"/>
          <p:cNvPicPr/>
          <p:nvPr/>
        </p:nvPicPr>
        <p:blipFill>
          <a:blip r:embed="rId1"/>
          <a:stretch/>
        </p:blipFill>
        <p:spPr>
          <a:xfrm>
            <a:off x="685800" y="762120"/>
            <a:ext cx="3809880" cy="2454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276975995_4696ecf55b"/>
          <p:cNvPicPr/>
          <p:nvPr/>
        </p:nvPicPr>
        <p:blipFill>
          <a:blip r:embed="rId2"/>
          <a:stretch/>
        </p:blipFill>
        <p:spPr>
          <a:xfrm>
            <a:off x="4267080" y="281952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8153280" y="3808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457200" y="3962520"/>
            <a:ext cx="3635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V st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ctional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from 7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©2010 Beyond Benign, All Rights Reserv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4952880" y="22096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myburningkitchen.com/2006/10/23/gelato-break-near-the-brady-bunch-house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990720" y="3352680"/>
            <a:ext cx="304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boingboing.net/2006/07/26/brady-bunch-house-re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5638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b Dyrd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2010 Beyond Benign, All Rights 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http://userscontent2.emaze.com/images/06d93f54-663e-40df-b2c0-1bcbadacdea7/aa74f0a6-e119-4d0a-85d2-7b7be219331d.jpg"/>
          <p:cNvPicPr/>
          <p:nvPr/>
        </p:nvPicPr>
        <p:blipFill>
          <a:blip r:embed="rId1"/>
          <a:stretch/>
        </p:blipFill>
        <p:spPr>
          <a:xfrm>
            <a:off x="2057400" y="1752480"/>
            <a:ext cx="4924440" cy="347688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0" y="6427800"/>
            <a:ext cx="2514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s://www.emaze.com/@AOZTIITC/Rob-Dyrde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6"/>
          <p:cNvSpPr/>
          <p:nvPr/>
        </p:nvSpPr>
        <p:spPr>
          <a:xfrm>
            <a:off x="8153280" y="3808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228600" y="4191120"/>
            <a:ext cx="5943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w up in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ateboa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 of his own video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2010 Beyond Benign, All Rights 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http://i.dailymail.co.uk/i/pix/2012/12/18/article-2250097-1691D889000005DC-465_634x396.jpg"/>
          <p:cNvPicPr/>
          <p:nvPr/>
        </p:nvPicPr>
        <p:blipFill>
          <a:blip r:embed="rId1"/>
          <a:stretch/>
        </p:blipFill>
        <p:spPr>
          <a:xfrm>
            <a:off x="838080" y="457200"/>
            <a:ext cx="60390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Tony_Hawks_Project_8_ps3"/>
          <p:cNvPicPr/>
          <p:nvPr/>
        </p:nvPicPr>
        <p:blipFill>
          <a:blip r:embed="rId1"/>
          <a:stretch/>
        </p:blipFill>
        <p:spPr>
          <a:xfrm>
            <a:off x="1905120" y="609480"/>
            <a:ext cx="4886280" cy="5705640"/>
          </a:xfrm>
          <a:prstGeom prst="rect">
            <a:avLst/>
          </a:prstGeom>
          <a:ln w="0">
            <a:noFill/>
          </a:ln>
        </p:spPr>
      </p:pic>
      <p:sp>
        <p:nvSpPr>
          <p:cNvPr id="100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2010 Beyond Benign, All Rights 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Home of Salma Hayek &amp; Francois-Henri Pinault"/>
          <p:cNvPicPr/>
          <p:nvPr/>
        </p:nvPicPr>
        <p:blipFill>
          <a:blip r:embed="rId2"/>
          <a:stretch/>
        </p:blipFill>
        <p:spPr>
          <a:xfrm>
            <a:off x="1752480" y="304920"/>
            <a:ext cx="6324840" cy="48574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8153280" y="3808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304920" y="4495680"/>
            <a:ext cx="883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n in Vera Cruz, Mex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red in “Frida” and Recipient of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ime Magaz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25 Most Influential Hispanics” in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2010 Beyond Benign, All Rights 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muzu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5867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lma Hay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salma-hayek-picture-2"/>
          <p:cNvPicPr/>
          <p:nvPr/>
        </p:nvPicPr>
        <p:blipFill>
          <a:blip r:embed="rId2"/>
          <a:stretch/>
        </p:blipFill>
        <p:spPr>
          <a:xfrm>
            <a:off x="2468520" y="228600"/>
            <a:ext cx="4224240" cy="5505480"/>
          </a:xfrm>
          <a:prstGeom prst="rect">
            <a:avLst/>
          </a:prstGeom>
          <a:ln w="0">
            <a:noFill/>
          </a:ln>
        </p:spPr>
      </p:pic>
      <p:sp>
        <p:nvSpPr>
          <p:cNvPr id="108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2010 Beyond Benign, All Rights 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6172200" y="6095880"/>
            <a:ext cx="2362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etty designs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detailsize-11.jpg"/>
          <p:cNvPicPr/>
          <p:nvPr/>
        </p:nvPicPr>
        <p:blipFill>
          <a:blip r:embed="rId1"/>
          <a:stretch/>
        </p:blipFill>
        <p:spPr>
          <a:xfrm>
            <a:off x="2352600" y="304920"/>
            <a:ext cx="6105600" cy="45846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8153280" y="3808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304920" y="4114800"/>
            <a:ext cx="883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d Menswear Designer of the Year by th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uncil of Fashion Designers of Ameri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199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daughter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as featured in th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MT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reality sh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Rich Gir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2010 Beyond Benign, All Rights 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914400" y="2286000"/>
            <a:ext cx="609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nydailynews.co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55623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mmy Hilfi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2010 Beyond Benign, All Rights 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File:Tommy Hilfiger portrait 2009 - Tommy Hilfiger.jpg"/>
          <p:cNvPicPr/>
          <p:nvPr/>
        </p:nvPicPr>
        <p:blipFill>
          <a:blip r:embed="rId1"/>
          <a:stretch/>
        </p:blipFill>
        <p:spPr>
          <a:xfrm>
            <a:off x="1828800" y="1066680"/>
            <a:ext cx="5073480" cy="38102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5"/>
          <p:cNvSpPr/>
          <p:nvPr/>
        </p:nvSpPr>
        <p:spPr>
          <a:xfrm>
            <a:off x="5867280" y="6396120"/>
            <a:ext cx="32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y Tommy Hilfiger (20090814_Tommy_Portrait_0232) [CC BY-SA 2.0 (http://creativecommons.org/licenses/by-sa/2.0)], via Wikimedia Comm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Home of Tom Cruise and Katie Holmes"/>
          <p:cNvPicPr/>
          <p:nvPr/>
        </p:nvPicPr>
        <p:blipFill>
          <a:blip r:embed="rId2"/>
          <a:stretch/>
        </p:blipFill>
        <p:spPr>
          <a:xfrm>
            <a:off x="1447920" y="685800"/>
            <a:ext cx="6858000" cy="45813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8153280" y="3808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304920" y="4267080"/>
            <a:ext cx="883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ed Joey Potter on “Dawson’s Creek” TV 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red in “Batman Begi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ried to Tom Cru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2010 Beyond Benign, All Rights 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762120" y="24382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ilymail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867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tie Hol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2010 Beyond Benign, All Rights 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5562720" y="5410080"/>
            <a:ext cx="2057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bd. 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http://ia.media-imdb.com/images/M/MV5BNTA2NjY5OTkzNl5BMl5BanBnXkFtZTcwMDE2NTkxNA@@._V1_UX214_CR0,0,214,317_AL_.jpg"/>
          <p:cNvPicPr/>
          <p:nvPr/>
        </p:nvPicPr>
        <p:blipFill>
          <a:blip r:embed="rId2"/>
          <a:stretch/>
        </p:blipFill>
        <p:spPr>
          <a:xfrm>
            <a:off x="2819520" y="762120"/>
            <a:ext cx="31384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6"/>
          <p:cNvSpPr/>
          <p:nvPr/>
        </p:nvSpPr>
        <p:spPr>
          <a:xfrm>
            <a:off x="8153280" y="3808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228600" y="4753080"/>
            <a:ext cx="8763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 Si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t famous in the 198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es by one name only (not a first and last na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2010 Beyond Benign, All Rights 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http://photos.wikimapia.org/p/00/02/16/45/65_full.jpeg"/>
          <p:cNvPicPr/>
          <p:nvPr/>
        </p:nvPicPr>
        <p:blipFill>
          <a:blip r:embed="rId1"/>
          <a:stretch/>
        </p:blipFill>
        <p:spPr>
          <a:xfrm>
            <a:off x="4038480" y="380880"/>
            <a:ext cx="3409920" cy="47628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6"/>
          <p:cNvSpPr/>
          <p:nvPr/>
        </p:nvSpPr>
        <p:spPr>
          <a:xfrm>
            <a:off x="4952880" y="5105520"/>
            <a:ext cx="2514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ikimapia.org/2292911/Ashcombe-House-Madonna-s-country-e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5867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rady Bun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2010 Beyond Benign, All Rights 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C:\Users\intern\AppData\Local\Microsoft\Windows\Temporary Internet Files\Content.IE5\D9QQBE06\rule-of-thirds-example-brady-bunch[1].jpg"/>
          <p:cNvPicPr/>
          <p:nvPr/>
        </p:nvPicPr>
        <p:blipFill>
          <a:blip r:embed="rId1"/>
          <a:stretch/>
        </p:blipFill>
        <p:spPr>
          <a:xfrm>
            <a:off x="1752480" y="838080"/>
            <a:ext cx="571500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600200" y="58672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o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2010 Beyond Benign, All Rights 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http://www.washingtonlife.com/wordpress/wp-content/uploads/2012/02/Madonna2.jpg"/>
          <p:cNvPicPr/>
          <p:nvPr/>
        </p:nvPicPr>
        <p:blipFill>
          <a:blip r:embed="rId1"/>
          <a:stretch/>
        </p:blipFill>
        <p:spPr>
          <a:xfrm>
            <a:off x="1447920" y="1447920"/>
            <a:ext cx="5667120" cy="309564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5638680" y="6642000"/>
            <a:ext cx="449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oto by FLICKR Creative Comm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Eddie Murphy"/>
          <p:cNvPicPr/>
          <p:nvPr/>
        </p:nvPicPr>
        <p:blipFill>
          <a:blip r:embed="rId1"/>
          <a:srcRect l="0" t="9727" r="0" b="12505"/>
          <a:stretch/>
        </p:blipFill>
        <p:spPr>
          <a:xfrm>
            <a:off x="1676520" y="533520"/>
            <a:ext cx="5287680" cy="42670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8153280" y="3808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28600" y="4448160"/>
            <a:ext cx="655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dian and 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 fame on Saturday Night L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 of “The Nutty Profess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2010 Beyond Benign, All Rights 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5943600" y="4800600"/>
            <a:ext cx="2057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elebhomes.ne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6095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die Murp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2010 Beyond Benign, All Rights 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https://upload.wikimedia.org/wikipedia/commons/5/5f/Eddie_Murphy_by_David_Shankbone.jpg"/>
          <p:cNvPicPr/>
          <p:nvPr/>
        </p:nvPicPr>
        <p:blipFill>
          <a:blip r:embed="rId1"/>
          <a:stretch/>
        </p:blipFill>
        <p:spPr>
          <a:xfrm>
            <a:off x="2895480" y="1066680"/>
            <a:ext cx="3505320" cy="43801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5"/>
          <p:cNvSpPr/>
          <p:nvPr/>
        </p:nvSpPr>
        <p:spPr>
          <a:xfrm>
            <a:off x="6781680" y="5562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y David Shankbone (flickr) [CC BY 2.0 (http://creativecommons.org/licenses/by/2.0)], via Wikimedia Common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acarsonpalmer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601560"/>
            <a:ext cx="6553440" cy="42084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8153280" y="3808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228600" y="4219560"/>
            <a:ext cx="5943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tball p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s for Cincinnati Beng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rterback, #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2010 Beyond Benign, All Rights 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6324480" y="661176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bergpropertie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51814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son Pal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2010 Beyond Benign, All Rights 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http://www.neontommy.com/sites/default/files/uploads/Carson%20Palmer.jpg"/>
          <p:cNvPicPr/>
          <p:nvPr/>
        </p:nvPicPr>
        <p:blipFill>
          <a:blip r:embed="rId1"/>
          <a:stretch/>
        </p:blipFill>
        <p:spPr>
          <a:xfrm>
            <a:off x="2057400" y="762120"/>
            <a:ext cx="4762440" cy="3666960"/>
          </a:xfrm>
          <a:prstGeom prst="rect">
            <a:avLst/>
          </a:prstGeom>
          <a:ln w="0">
            <a:noFill/>
          </a:ln>
        </p:spPr>
      </p:pic>
      <p:sp>
        <p:nvSpPr>
          <p:cNvPr id="154" name="TextBox 5"/>
          <p:cNvSpPr/>
          <p:nvPr/>
        </p:nvSpPr>
        <p:spPr>
          <a:xfrm>
            <a:off x="5867280" y="6488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reativecomm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3" descr="08_21Celeb_pitt"/>
          <p:cNvPicPr/>
          <p:nvPr/>
        </p:nvPicPr>
        <p:blipFill>
          <a:blip r:embed="rId1"/>
          <a:stretch/>
        </p:blipFill>
        <p:spPr>
          <a:xfrm>
            <a:off x="1219320" y="457200"/>
            <a:ext cx="7010280" cy="44863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6172200" y="2819520"/>
            <a:ext cx="2057400" cy="245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8290080" y="380880"/>
            <a:ext cx="54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228600" y="4402080"/>
            <a:ext cx="85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e 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married to Jennifer Annis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 of “Ocean’s Eleven”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2010 Beyond Benign, All Rights 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6629400" y="659592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onlin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6019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ad Pit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2010 Beyond Benign, All Rights 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http://www.neontommy.com/sites/default/files/users/user626/brad%20pitt%20august%202012%20eight_0.jpg"/>
          <p:cNvPicPr/>
          <p:nvPr/>
        </p:nvPicPr>
        <p:blipFill>
          <a:blip r:embed="rId1"/>
          <a:stretch/>
        </p:blipFill>
        <p:spPr>
          <a:xfrm>
            <a:off x="1371600" y="1523880"/>
            <a:ext cx="6000840" cy="4000680"/>
          </a:xfrm>
          <a:prstGeom prst="rect">
            <a:avLst/>
          </a:prstGeom>
          <a:ln w="0">
            <a:noFill/>
          </a:ln>
        </p:spPr>
      </p:pic>
      <p:sp>
        <p:nvSpPr>
          <p:cNvPr id="164" name="TextBox 5"/>
          <p:cNvSpPr/>
          <p:nvPr/>
        </p:nvSpPr>
        <p:spPr>
          <a:xfrm>
            <a:off x="6400800" y="64008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 credit: creative comm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maxebrdi40330898.jpg"/>
          <p:cNvPicPr/>
          <p:nvPr/>
        </p:nvPicPr>
        <p:blipFill>
          <a:blip r:embed="rId1"/>
          <a:stretch/>
        </p:blipFill>
        <p:spPr>
          <a:xfrm>
            <a:off x="380880" y="457200"/>
            <a:ext cx="5086440" cy="3397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fambob.bmp"/>
          <p:cNvPicPr/>
          <p:nvPr/>
        </p:nvPicPr>
        <p:blipFill>
          <a:blip r:embed="rId2"/>
          <a:stretch/>
        </p:blipFill>
        <p:spPr>
          <a:xfrm>
            <a:off x="4800600" y="3124080"/>
            <a:ext cx="3562200" cy="23799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8"/>
          <p:cNvSpPr/>
          <p:nvPr/>
        </p:nvSpPr>
        <p:spPr>
          <a:xfrm>
            <a:off x="8153280" y="3808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228600" y="4219560"/>
            <a:ext cx="5943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ketball p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enix S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d, #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2010 Beyond Benign, All Rights 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6095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son Richard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2010 Beyond Benign, All Rights 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http://images.jobsnhire.com/data/images/full/29251/jason-richardson.jpg?w=550"/>
          <p:cNvPicPr/>
          <p:nvPr/>
        </p:nvPicPr>
        <p:blipFill>
          <a:blip r:embed="rId1"/>
          <a:stretch/>
        </p:blipFill>
        <p:spPr>
          <a:xfrm>
            <a:off x="1828800" y="-152280"/>
            <a:ext cx="4524480" cy="5705280"/>
          </a:xfrm>
          <a:prstGeom prst="rect">
            <a:avLst/>
          </a:prstGeom>
          <a:ln w="0">
            <a:noFill/>
          </a:ln>
        </p:spPr>
      </p:pic>
      <p:sp>
        <p:nvSpPr>
          <p:cNvPr id="173" name="TextBox 5"/>
          <p:cNvSpPr/>
          <p:nvPr/>
        </p:nvSpPr>
        <p:spPr>
          <a:xfrm>
            <a:off x="4800600" y="5562720"/>
            <a:ext cx="2133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hoto: creative common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9" descr="roddick-iii.jpg"/>
          <p:cNvPicPr/>
          <p:nvPr/>
        </p:nvPicPr>
        <p:blipFill>
          <a:blip r:embed="rId1"/>
          <a:stretch/>
        </p:blipFill>
        <p:spPr>
          <a:xfrm>
            <a:off x="3886200" y="3657600"/>
            <a:ext cx="3581280" cy="2381400"/>
          </a:xfrm>
          <a:prstGeom prst="rect">
            <a:avLst/>
          </a:prstGeom>
          <a:ln w="0">
            <a:noFill/>
          </a:ln>
        </p:spPr>
      </p:pic>
      <p:grpSp>
        <p:nvGrpSpPr>
          <p:cNvPr id="175" name="Group 13"/>
          <p:cNvGrpSpPr/>
          <p:nvPr/>
        </p:nvGrpSpPr>
        <p:grpSpPr>
          <a:xfrm>
            <a:off x="304920" y="838080"/>
            <a:ext cx="8305560" cy="2989440"/>
            <a:chOff x="304920" y="838080"/>
            <a:chExt cx="8305560" cy="2989440"/>
          </a:xfrm>
        </p:grpSpPr>
        <p:pic>
          <p:nvPicPr>
            <p:cNvPr id="176" name="Picture 5" descr="roddick-i.jpg"/>
            <p:cNvPicPr/>
            <p:nvPr/>
          </p:nvPicPr>
          <p:blipFill>
            <a:blip r:embed="rId2"/>
            <a:stretch/>
          </p:blipFill>
          <p:spPr>
            <a:xfrm>
              <a:off x="304920" y="838080"/>
              <a:ext cx="4267080" cy="28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7" descr="roddick-ii.jpg"/>
            <p:cNvPicPr/>
            <p:nvPr/>
          </p:nvPicPr>
          <p:blipFill>
            <a:blip r:embed="rId3"/>
            <a:stretch/>
          </p:blipFill>
          <p:spPr>
            <a:xfrm>
              <a:off x="4572000" y="1143000"/>
              <a:ext cx="4038480" cy="268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Text Box 10"/>
          <p:cNvSpPr/>
          <p:nvPr/>
        </p:nvSpPr>
        <p:spPr>
          <a:xfrm>
            <a:off x="8153280" y="3808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228600" y="4114800"/>
            <a:ext cx="4724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nis p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nd Slam singles champ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ked #1 US p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2010 Beyond Benign, All Rights 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8"/>
          <p:cNvSpPr/>
          <p:nvPr/>
        </p:nvSpPr>
        <p:spPr>
          <a:xfrm>
            <a:off x="6629400" y="661176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bergpropertie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10"/>
          <p:cNvGrpSpPr/>
          <p:nvPr/>
        </p:nvGrpSpPr>
        <p:grpSpPr>
          <a:xfrm>
            <a:off x="152280" y="457200"/>
            <a:ext cx="6248160" cy="4800240"/>
            <a:chOff x="152280" y="457200"/>
            <a:chExt cx="6248160" cy="4800240"/>
          </a:xfrm>
        </p:grpSpPr>
        <p:pic>
          <p:nvPicPr>
            <p:cNvPr id="59" name="Picture 5" descr="08-286157-3"/>
            <p:cNvPicPr/>
            <p:nvPr/>
          </p:nvPicPr>
          <p:blipFill>
            <a:blip r:embed="rId1"/>
            <a:stretch/>
          </p:blipFill>
          <p:spPr>
            <a:xfrm>
              <a:off x="152280" y="457200"/>
              <a:ext cx="3298680" cy="262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7" descr="08-286157"/>
            <p:cNvPicPr/>
            <p:nvPr/>
          </p:nvPicPr>
          <p:blipFill>
            <a:blip r:embed="rId2"/>
            <a:stretch/>
          </p:blipFill>
          <p:spPr>
            <a:xfrm>
              <a:off x="3440880" y="2899080"/>
              <a:ext cx="2959560" cy="2358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" name="Picture 9" descr="08-286157-4"/>
          <p:cNvPicPr/>
          <p:nvPr/>
        </p:nvPicPr>
        <p:blipFill>
          <a:blip r:embed="rId3"/>
          <a:stretch/>
        </p:blipFill>
        <p:spPr>
          <a:xfrm>
            <a:off x="5486400" y="457200"/>
            <a:ext cx="3276720" cy="24606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1"/>
          <p:cNvSpPr/>
          <p:nvPr/>
        </p:nvSpPr>
        <p:spPr>
          <a:xfrm>
            <a:off x="685800" y="579132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457200" y="3581280"/>
            <a:ext cx="3635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BA p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2010 Beyond Benign, All Rights 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6095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y Roddi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2010 Beyond Benign, All Rights 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https://upload.wikimedia.org/wikipedia/commons/4/45/Andy_Roddick.jpg"/>
          <p:cNvPicPr/>
          <p:nvPr/>
        </p:nvPicPr>
        <p:blipFill>
          <a:blip r:embed="rId1"/>
          <a:stretch/>
        </p:blipFill>
        <p:spPr>
          <a:xfrm>
            <a:off x="2514600" y="0"/>
            <a:ext cx="3429000" cy="5932440"/>
          </a:xfrm>
          <a:prstGeom prst="rect">
            <a:avLst/>
          </a:prstGeom>
          <a:ln w="0">
            <a:noFill/>
          </a:ln>
        </p:spPr>
      </p:pic>
      <p:sp>
        <p:nvSpPr>
          <p:cNvPr id="185" name="TextBox 5"/>
          <p:cNvSpPr/>
          <p:nvPr/>
        </p:nvSpPr>
        <p:spPr>
          <a:xfrm>
            <a:off x="380880" y="5029200"/>
            <a:ext cx="1752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y Boss Tweed, Flickr.com (http://www.flickr.com/photos/bosstweed/1028296811/) [CC BY 2.0 (http://creativecommons.org/licenses/by/2.0) or CC BY 2.0 (http://creativecommons.org/licenses/by/2.0)], via Wikimedia Comm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06_21Celeb_smith"/>
          <p:cNvPicPr/>
          <p:nvPr/>
        </p:nvPicPr>
        <p:blipFill>
          <a:blip r:embed="rId1"/>
          <a:stretch/>
        </p:blipFill>
        <p:spPr>
          <a:xfrm>
            <a:off x="838080" y="609480"/>
            <a:ext cx="7467840" cy="47800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6"/>
          <p:cNvSpPr/>
          <p:nvPr/>
        </p:nvSpPr>
        <p:spPr>
          <a:xfrm>
            <a:off x="762120" y="3124080"/>
            <a:ext cx="22860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8153280" y="3808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152280" y="3044880"/>
            <a:ext cx="3353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e 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an career as rap ar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red on “Fresh Prince of Bel Air” TV 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 of “Hancoc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2010 Beyond Benign, All Rights 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6"/>
          <p:cNvSpPr/>
          <p:nvPr/>
        </p:nvSpPr>
        <p:spPr>
          <a:xfrm>
            <a:off x="7010280" y="6400800"/>
            <a:ext cx="259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okedonhouse.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6095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ll Smi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2010 Beyond Benign, All Rights 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" descr="https://upload.wikimedia.org/wikipedia/commons/b/b4/Will_Smith_2012.jpg"/>
          <p:cNvPicPr/>
          <p:nvPr/>
        </p:nvPicPr>
        <p:blipFill>
          <a:blip r:embed="rId1"/>
          <a:stretch/>
        </p:blipFill>
        <p:spPr>
          <a:xfrm>
            <a:off x="2286000" y="228600"/>
            <a:ext cx="4191120" cy="5886360"/>
          </a:xfrm>
          <a:prstGeom prst="rect">
            <a:avLst/>
          </a:prstGeom>
          <a:ln w="0">
            <a:noFill/>
          </a:ln>
        </p:spPr>
      </p:pic>
      <p:sp>
        <p:nvSpPr>
          <p:cNvPr id="195" name="TextBox 5"/>
          <p:cNvSpPr/>
          <p:nvPr/>
        </p:nvSpPr>
        <p:spPr>
          <a:xfrm>
            <a:off x="6400800" y="6334200"/>
            <a:ext cx="259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y Official Navy Page  Uploaded by MyCanon (Will Smith) [Public domain or CC BY 2.0 (http://creativecommons.org/licenses/by/2.0)], via Wikimedia Common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6"/>
          <p:cNvSpPr/>
          <p:nvPr/>
        </p:nvSpPr>
        <p:spPr>
          <a:xfrm>
            <a:off x="8153280" y="3808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28600" y="4448160"/>
            <a:ext cx="6705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ctional char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toon drawn by Charles M. Schul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friend is named Wood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2010 Beyond Benign, All Rights 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C:\Users\intern\AppData\Local\Microsoft\Windows\Temporary Internet Files\Content.IE5\D9QQBE06\sopwith[1].jpg"/>
          <p:cNvPicPr/>
          <p:nvPr/>
        </p:nvPicPr>
        <p:blipFill>
          <a:blip r:embed="rId1"/>
          <a:srcRect l="0" t="40793" r="0" b="0"/>
          <a:stretch/>
        </p:blipFill>
        <p:spPr>
          <a:xfrm>
            <a:off x="2971800" y="2057400"/>
            <a:ext cx="240840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6095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noo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2010 Beyond Benign, All Rights 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C:\Users\intern\AppData\Local\Microsoft\Windows\Temporary Internet Files\Content.IE5\D9QQBE06\sopwith[1].jpg"/>
          <p:cNvPicPr/>
          <p:nvPr/>
        </p:nvPicPr>
        <p:blipFill>
          <a:blip r:embed="rId1"/>
          <a:stretch/>
        </p:blipFill>
        <p:spPr>
          <a:xfrm>
            <a:off x="3429000" y="2362320"/>
            <a:ext cx="184788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5" descr="Oprah's house - copyright owned by nikon4004"/>
          <p:cNvPicPr/>
          <p:nvPr/>
        </p:nvPicPr>
        <p:blipFill>
          <a:blip r:embed="rId2"/>
          <a:stretch/>
        </p:blipFill>
        <p:spPr>
          <a:xfrm>
            <a:off x="1447920" y="990720"/>
            <a:ext cx="6553080" cy="43513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6"/>
          <p:cNvSpPr/>
          <p:nvPr/>
        </p:nvSpPr>
        <p:spPr>
          <a:xfrm>
            <a:off x="8153280" y="3808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533520" y="4448160"/>
            <a:ext cx="5943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V talk show host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a book cl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a magazine entitled, “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2010 Beyond Benign, All Rights 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4343400" y="5257800"/>
            <a:ext cx="350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hubpages.com/entertainment/Homes-of-the-rich-and-fam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5867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rah Winfr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2010 Beyond Benign, All Rights 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C:\Users\intern\AppData\Local\Microsoft\Windows\Temporary Internet Files\Content.IE5\1GNPCDUU\tumblr_mcqcsmOR981rpto3wo1_500[1].png"/>
          <p:cNvPicPr/>
          <p:nvPr/>
        </p:nvPicPr>
        <p:blipFill>
          <a:blip r:embed="rId2"/>
          <a:stretch/>
        </p:blipFill>
        <p:spPr>
          <a:xfrm>
            <a:off x="2190600" y="1886040"/>
            <a:ext cx="4762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no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atie Hol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prah Winfr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ny Haw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do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orge Clo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ddie Mur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rad Pi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rack Ob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lma Hay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4495680" y="1600200"/>
            <a:ext cx="44197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he Brady B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Will Sm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Jason Richard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Picabo Str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Elton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ndy Rodd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Rob Dyrd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ommy Hilfi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Carson Pal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2010 Beyond Benign, All Rights 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5638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ton Br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2010 Beyond Benign, All Rights 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File:Elton Brand 10.jpg"/>
          <p:cNvPicPr/>
          <p:nvPr/>
        </p:nvPicPr>
        <p:blipFill>
          <a:blip r:embed="rId1"/>
          <a:stretch/>
        </p:blipFill>
        <p:spPr>
          <a:xfrm>
            <a:off x="2743200" y="914400"/>
            <a:ext cx="3554280" cy="464832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0" y="6303960"/>
            <a:ext cx="312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y Keith Allison [CC BY-SA 2.0 (http://creativecommons.org/licenses/by-sa/2.0)], via Wikimedia Comm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6"/>
          <p:cNvSpPr/>
          <p:nvPr/>
        </p:nvSpPr>
        <p:spPr>
          <a:xfrm>
            <a:off x="8153280" y="3808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457200" y="4495680"/>
            <a:ext cx="556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s in Washington, 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ident of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2010 Beyond Benign, All Rights 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C:\Users\intern\AppData\Local\Microsoft\Windows\Temporary Internet Files\Content.IE5\1GNPCDUU\capitol-building-clipart[1].gif"/>
          <p:cNvPicPr/>
          <p:nvPr/>
        </p:nvPicPr>
        <p:blipFill>
          <a:blip r:embed="rId1"/>
          <a:stretch/>
        </p:blipFill>
        <p:spPr>
          <a:xfrm>
            <a:off x="2971800" y="1676520"/>
            <a:ext cx="365760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5867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ack Oba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2010 Beyond Benign, All Rights 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http://www.ruwhim.com/wp-content/uploads/2012/09/Official_Portrait_of_Barack_Obama.jpeg"/>
          <p:cNvPicPr/>
          <p:nvPr/>
        </p:nvPicPr>
        <p:blipFill>
          <a:blip r:embed="rId1"/>
          <a:stretch/>
        </p:blipFill>
        <p:spPr>
          <a:xfrm>
            <a:off x="2895480" y="1905120"/>
            <a:ext cx="2819520" cy="3840120"/>
          </a:xfrm>
          <a:prstGeom prst="rect">
            <a:avLst/>
          </a:prstGeom>
          <a:ln w="0">
            <a:noFill/>
          </a:ln>
        </p:spPr>
      </p:pic>
      <p:sp>
        <p:nvSpPr>
          <p:cNvPr id="76" name="TextBox 6"/>
          <p:cNvSpPr/>
          <p:nvPr/>
        </p:nvSpPr>
        <p:spPr>
          <a:xfrm>
            <a:off x="0" y="6458040"/>
            <a:ext cx="3124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rack Obama. Photo courtesy of Creative Comm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8"/>
          <p:cNvSpPr/>
          <p:nvPr/>
        </p:nvSpPr>
        <p:spPr>
          <a:xfrm>
            <a:off x="8153280" y="3808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457200" y="4371840"/>
            <a:ext cx="556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e 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n in Lexington, Kentu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ed a doctor on a TV 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’s Eleve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2010 Beyond Benign, All Rights 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https://upload.wikimedia.org/wikipedia/commons/3/3a/2006-06-14_Villa_Clooney_in_Laglio.jpg"/>
          <p:cNvPicPr/>
          <p:nvPr/>
        </p:nvPicPr>
        <p:blipFill>
          <a:blip r:embed="rId1"/>
          <a:stretch/>
        </p:blipFill>
        <p:spPr>
          <a:xfrm>
            <a:off x="2286000" y="2057400"/>
            <a:ext cx="3438360" cy="2286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7"/>
          <p:cNvSpPr/>
          <p:nvPr/>
        </p:nvSpPr>
        <p:spPr>
          <a:xfrm>
            <a:off x="4191120" y="4343400"/>
            <a:ext cx="2438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y Hamster28 (Own work) [Public domain], via Wikimedia Comm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rge Cloo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2010 Beyond Benign, All Rights 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https://upload.wikimedia.org/wikipedia/commons/thumb/7/73/George_Clooney_66%C3%A8me_Festival_de_Venise_(Mostra)_3Alt1.jpg/515px-George_Clooney_66%C3%A8me_Festival_de_Venise_(Mostra)_3Alt1.jpg"/>
          <p:cNvPicPr/>
          <p:nvPr/>
        </p:nvPicPr>
        <p:blipFill>
          <a:blip r:embed="rId1"/>
          <a:stretch/>
        </p:blipFill>
        <p:spPr>
          <a:xfrm>
            <a:off x="2514600" y="1295280"/>
            <a:ext cx="353232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5943600" y="0"/>
            <a:ext cx="297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:George Clooney 66ème Festival de Venise (Mostra) 3Alt1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dyrdek-i"/>
          <p:cNvPicPr/>
          <p:nvPr/>
        </p:nvPicPr>
        <p:blipFill>
          <a:blip r:embed="rId1"/>
          <a:stretch/>
        </p:blipFill>
        <p:spPr>
          <a:xfrm>
            <a:off x="990720" y="762120"/>
            <a:ext cx="4495680" cy="3376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dyrdek-x"/>
          <p:cNvPicPr/>
          <p:nvPr/>
        </p:nvPicPr>
        <p:blipFill>
          <a:blip r:embed="rId2"/>
          <a:stretch/>
        </p:blipFill>
        <p:spPr>
          <a:xfrm>
            <a:off x="5486400" y="2971800"/>
            <a:ext cx="3209760" cy="24112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8153280" y="3808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228600" y="4219560"/>
            <a:ext cx="5943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ateboa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 of “Rob and Big” TV 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 of “….Fantasy Factory” TV 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2010 Beyond Benign, All Rights 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7T03:21:28Z</dcterms:created>
  <dc:creator>bcarson</dc:creator>
  <dc:description/>
  <dc:language>en-US</dc:language>
  <cp:lastModifiedBy>intern</cp:lastModifiedBy>
  <dcterms:modified xsi:type="dcterms:W3CDTF">2016-01-21T21:27:46Z</dcterms:modified>
  <cp:revision>43</cp:revision>
  <dc:subject/>
  <dc:title>Slide 1</dc:title>
</cp:coreProperties>
</file>