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369C-2462-4263-BA8E-2D6FBD74F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80AA-615A-4558-B74F-A6013B930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4CFA-3160-433A-BE91-DE06747D1E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5D8D-F75B-4965-89EC-2D983EC766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7E7B-AD38-4909-838F-7FADF5B424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B75E-8219-46F9-B581-74182CD873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4114-63CC-413E-A2B8-BC33EA4FC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A105-472E-406D-ACFD-B5134AC489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E7A7-A7A8-4AE3-B448-EE39317453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8B7-FE73-4AAE-BAD4-43CC6235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F84-74E6-480F-A7C3-2F8F15F9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6AF-326F-463B-A6EF-372799A9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43A-C9BF-49EF-8A8E-F588CBCC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BCE0-BA5A-4972-A5F8-BECFF2ED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D6A9-93F0-4144-8A0D-B7B952D9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8EE2-7869-4AC2-997D-6D8CE565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EE60-A0D4-47ED-A5E8-B2B29322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1599-E86F-4556-ACB3-9E0BDE3E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2CCC-BA31-475D-8A98-AC6560E8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EB98-BBFC-4C6A-9790-D18302BD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0B0-A201-4899-B9B7-FA84AF75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01FE-5AF9-42AE-9B7C-CE8FF294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EC88-2FBF-434F-B03E-02B51E8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FFB1-95DB-406F-843E-1AAF56A4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D910-1C52-4E19-8AFC-2F2BB474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1644-437A-41AA-904E-3E7DC141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B61-2723-40FD-A734-BA6BB74A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22A-8DDF-4A11-9936-629D1A21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168-3FC4-4E5A-B8AE-832D4D04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BE6-A3C4-416A-A1F3-14ABBC0F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AD0-4ACB-4120-A42F-D09B7A8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F32-6CFC-4FA4-AED0-8E957CA3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3CB-63C5-42BC-8075-E036E16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22A-A09F-4E5E-9068-6C1821DC5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A83C-6AE5-4868-9668-8859001BE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b7"/>
                </a:solidFill>
                <a:latin typeface="Arial Black"/>
              </a:rPr>
              <a:t>The Story of Cosmetic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834280" y="487692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storyofstuff.org/cosmetic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The Story of Cosmetics: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flec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you add to the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you remo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opics would you want to discuss with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add your ideas to the pos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s It Easy Being Green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your host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ly Chart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2209680" cy="12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body tells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" y="457200"/>
            <a:ext cx="83818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Top 6 clues that you need to take a sh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010280" y="3886200"/>
            <a:ext cx="1828800" cy="1523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ies are attracted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14800" y="2514600"/>
            <a:ext cx="1981080" cy="1143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 ch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143000" y="3581280"/>
            <a:ext cx="1905120" cy="213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wants to sit next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733920" y="4038480"/>
            <a:ext cx="2209680" cy="17528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se drips off your 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858000" y="1981080"/>
            <a:ext cx="1828800" cy="1219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isp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114800" y="2514600"/>
            <a:ext cx="20574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838080" y="1905120"/>
            <a:ext cx="2514600" cy="1295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858000" y="1905120"/>
            <a:ext cx="1905120" cy="1295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6858000" y="3886200"/>
            <a:ext cx="1981080" cy="1600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1066680" y="3581280"/>
            <a:ext cx="2133720" cy="2133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733920" y="3962520"/>
            <a:ext cx="220968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1">
            <a:hlinkClick r:id="rId1"/>
          </p:cNvPr>
          <p:cNvSpPr/>
          <p:nvPr/>
        </p:nvSpPr>
        <p:spPr>
          <a:xfrm>
            <a:off x="3352680" y="5943600"/>
            <a:ext cx="5335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2">
            <a:hlinkClick r:id="rId2"/>
          </p:cNvPr>
          <p:cNvSpPr/>
          <p:nvPr/>
        </p:nvSpPr>
        <p:spPr>
          <a:xfrm>
            <a:off x="4419720" y="5943600"/>
            <a:ext cx="53316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3">
            <a:hlinkClick r:id="rId3"/>
          </p:cNvPr>
          <p:cNvSpPr/>
          <p:nvPr/>
        </p:nvSpPr>
        <p:spPr>
          <a:xfrm>
            <a:off x="5486400" y="5943600"/>
            <a:ext cx="5335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289548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990720" y="457200"/>
            <a:ext cx="7543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6  habits that ruin 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191120" y="1295280"/>
            <a:ext cx="2057400" cy="2133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aying cologne or perf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010280" y="4495680"/>
            <a:ext cx="175284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br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124080" y="4114800"/>
            <a:ext cx="19814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with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57200" y="5181480"/>
            <a:ext cx="2133720" cy="990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ting poo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6705720" y="1600200"/>
            <a:ext cx="2209680" cy="1066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wing on 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914400" y="1828800"/>
            <a:ext cx="2895480" cy="121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4191120" y="1295280"/>
            <a:ext cx="2057400" cy="228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6629400" y="1523880"/>
            <a:ext cx="2286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6934320" y="4495680"/>
            <a:ext cx="18288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3124080" y="4114800"/>
            <a:ext cx="1981440" cy="121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380880" y="5105520"/>
            <a:ext cx="22100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5">
            <a:hlinkClick r:id="rId1"/>
          </p:cNvPr>
          <p:cNvSpPr/>
          <p:nvPr/>
        </p:nvSpPr>
        <p:spPr>
          <a:xfrm>
            <a:off x="3352680" y="5943600"/>
            <a:ext cx="5335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6">
            <a:hlinkClick r:id="rId2"/>
          </p:cNvPr>
          <p:cNvSpPr/>
          <p:nvPr/>
        </p:nvSpPr>
        <p:spPr>
          <a:xfrm>
            <a:off x="4267080" y="5943600"/>
            <a:ext cx="5335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7">
            <a:hlinkClick r:id="rId3"/>
          </p:cNvPr>
          <p:cNvSpPr/>
          <p:nvPr/>
        </p:nvSpPr>
        <p:spPr>
          <a:xfrm>
            <a:off x="5257800" y="5943600"/>
            <a:ext cx="5335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120" y="1904760"/>
            <a:ext cx="1676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83808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6 factors that influence which shampoo consumers bu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114800" y="2209680"/>
            <a:ext cx="1981080" cy="838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kaging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905120" y="3200400"/>
            <a:ext cx="1904760" cy="8380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09880" y="4343400"/>
            <a:ext cx="2210040" cy="1143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d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6781680" y="4572000"/>
            <a:ext cx="2133720" cy="1295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629400" y="1676520"/>
            <a:ext cx="2286000" cy="1828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d name &amp;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905120" y="3124080"/>
            <a:ext cx="1904760" cy="990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533520" y="1752480"/>
            <a:ext cx="1904760" cy="990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4114800" y="2133720"/>
            <a:ext cx="20574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6553080" y="1600200"/>
            <a:ext cx="2362320" cy="2057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3809880" y="4267080"/>
            <a:ext cx="2210040" cy="1219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6781680" y="4572000"/>
            <a:ext cx="2133720" cy="1447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0">
            <a:hlinkClick r:id="rId1"/>
          </p:cNvPr>
          <p:cNvSpPr/>
          <p:nvPr/>
        </p:nvSpPr>
        <p:spPr>
          <a:xfrm>
            <a:off x="457200" y="4952880"/>
            <a:ext cx="5335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1">
            <a:hlinkClick r:id="rId2"/>
          </p:cNvPr>
          <p:cNvSpPr/>
          <p:nvPr/>
        </p:nvSpPr>
        <p:spPr>
          <a:xfrm>
            <a:off x="457200" y="3962520"/>
            <a:ext cx="5335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2">
            <a:hlinkClick r:id="rId3"/>
          </p:cNvPr>
          <p:cNvSpPr/>
          <p:nvPr/>
        </p:nvSpPr>
        <p:spPr>
          <a:xfrm>
            <a:off x="457200" y="2971800"/>
            <a:ext cx="5335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nal Task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Become a materials scient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process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 with production and design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shampoo more green than Kermit, pea soup or Oscar the Grou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Embrace the spirit of capitalis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e ethically and consider the environment, economics, &amp; human well be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benign shampoo which adheres to the Principles of Green Chemist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Return to our next show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“is it easy being green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Keep it easy, and </a:t>
            </a:r>
            <a:br>
              <a:rPr sz="8800"/>
            </a:b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keep it green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5" descr="File:Full bottle chemistry.svg"/>
          <p:cNvPicPr/>
          <p:nvPr/>
        </p:nvPicPr>
        <p:blipFill>
          <a:blip r:embed="rId1"/>
          <a:stretch/>
        </p:blipFill>
        <p:spPr>
          <a:xfrm>
            <a:off x="3733920" y="5211720"/>
            <a:ext cx="1828800" cy="1646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6248520" y="59436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Public domain], via Wikimedia Comm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20:02:05Z</dcterms:created>
  <dc:creator>carson</dc:creator>
  <dc:description/>
  <dc:language>en-US</dc:language>
  <cp:lastModifiedBy>intern</cp:lastModifiedBy>
  <dcterms:modified xsi:type="dcterms:W3CDTF">2015-12-21T21:01:51Z</dcterms:modified>
  <cp:revision>22</cp:revision>
  <dc:subject/>
  <dc:title>Is It Easy Being Green?</dc:title>
</cp:coreProperties>
</file>