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1CF2-EAB3-4B41-96B8-425732371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8432-84D4-46B6-8616-113DB991A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2B72-3A4F-4C81-B0FD-03773B128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D3FC-1B52-47E9-99F6-9631BA37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DF49-B995-424F-B620-E8FB373AE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312E-35E4-416F-B94A-B22C88EC0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36BE-AE5E-4A30-AA71-0F10B17E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A52A-CD41-4F38-BF58-74DA5033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4EA1-EDC9-4E8E-A70C-CBD13E3E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7FD2-9940-4A60-9D53-C1CE597C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4AA1-EA27-455F-9D09-E50BBAFF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54B0-B7E4-45BB-9273-394BC4EA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D146-9A09-4F5F-8325-C48621E3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37F2-8481-4148-82AD-382DD8B6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E043-5E39-4BFC-BC18-4BE1B2E3A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g.tfd.com/vet/thumbs/gr3.jpg&amp;imgrefurl=http://medical-dictionary.thefreedictionary.com/acne&amp;usg=__G7nCTzLsYugu8OAo8ERjEXG3SUg=&amp;h=240&amp;w=250&amp;sz=10&amp;hl=en&amp;start=22&amp;tbnid=lBNPj1Q6m6IVBM:&amp;tbnh=107&amp;tbnw=111&amp;prev=/images%3Fq%3Dfeline%2Bacne%26start%3D20%26gbv%3D2%26ndsp%3D20%26hl%3Den%26sa%3DN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Rockwell Extra Bold"/>
              </a:rPr>
              <a:t>Facts About</a:t>
            </a:r>
            <a:br>
              <a:rPr sz="5400"/>
            </a:br>
            <a:r>
              <a:rPr b="0" lang="en-US" sz="5400" spc="-1" strike="noStrike" u="sng">
                <a:solidFill>
                  <a:srgbClr val="ff0000"/>
                </a:solidFill>
                <a:uFillTx/>
                <a:latin typeface="Rockwell Extra Bold"/>
              </a:rPr>
              <a:t>Feline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Rockwell Extra Bold"/>
              </a:rPr>
              <a:t> </a:t>
            </a:r>
            <a:r>
              <a:rPr b="0" lang="en-US" sz="5400" spc="-1" strike="noStrike" u="sng">
                <a:solidFill>
                  <a:srgbClr val="ff0000"/>
                </a:solidFill>
                <a:uFillTx/>
                <a:latin typeface="Rockwell Extra Bold"/>
              </a:rPr>
              <a:t>Ac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gr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2463840"/>
            <a:ext cx="3809880" cy="36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0" name="Rectangle 11"/>
          <p:cNvSpPr/>
          <p:nvPr/>
        </p:nvSpPr>
        <p:spPr>
          <a:xfrm>
            <a:off x="1817280" y="6297480"/>
            <a:ext cx="43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eteducation.com/article.cfm?c=1+2141&amp;aid=25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C:\Users\intern\AppData\Local\Microsoft\Windows\Temporary Internet Files\Content.IE5\0DIWABEP\cat-paw-prints-sharp[1].png"/>
          <p:cNvPicPr/>
          <p:nvPr/>
        </p:nvPicPr>
        <p:blipFill>
          <a:blip r:embed="rId3"/>
          <a:stretch/>
        </p:blipFill>
        <p:spPr>
          <a:xfrm>
            <a:off x="7162920" y="990720"/>
            <a:ext cx="1620720" cy="1444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C:\Users\intern\AppData\Local\Microsoft\Windows\Temporary Internet Files\Content.IE5\0DIWABEP\cat-paw-prints-sharp[1].png"/>
          <p:cNvPicPr/>
          <p:nvPr/>
        </p:nvPicPr>
        <p:blipFill>
          <a:blip r:embed="rId4"/>
          <a:stretch/>
        </p:blipFill>
        <p:spPr>
          <a:xfrm>
            <a:off x="228600" y="838080"/>
            <a:ext cx="162072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What is Feline Acn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 condition in which comedones (blackheads) develop on the chin of a c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Feline acne"/>
          <p:cNvPicPr/>
          <p:nvPr/>
        </p:nvPicPr>
        <p:blipFill>
          <a:blip r:embed="rId1"/>
          <a:stretch/>
        </p:blipFill>
        <p:spPr>
          <a:xfrm>
            <a:off x="3048120" y="3124080"/>
            <a:ext cx="4038480" cy="28958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56" name="TextBox 4"/>
          <p:cNvSpPr/>
          <p:nvPr/>
        </p:nvSpPr>
        <p:spPr>
          <a:xfrm>
            <a:off x="2895480" y="6095880"/>
            <a:ext cx="533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peteducation.com/article.cfm?c=1+2141&amp;aid=25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 Rounded MT Bold"/>
              </a:rPr>
              <a:t>What are the symptoms </a:t>
            </a:r>
            <a:r>
              <a:rPr b="0" lang="en-US" sz="5400" spc="-1" strike="noStrike" u="sng">
                <a:solidFill>
                  <a:srgbClr val="ff0000"/>
                </a:solidFill>
                <a:uFillTx/>
                <a:latin typeface="Arial Rounded MT Bold"/>
              </a:rPr>
              <a:t>of Feline Acn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Comedones on chin and l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Dirty appearance on ch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Crusts may 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Itching may occ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Hair loss and Swelling in severe c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180px-Feline_chin_acne"/>
          <p:cNvPicPr/>
          <p:nvPr/>
        </p:nvPicPr>
        <p:blipFill>
          <a:blip r:embed="rId1"/>
          <a:stretch/>
        </p:blipFill>
        <p:spPr>
          <a:xfrm>
            <a:off x="5867280" y="3200400"/>
            <a:ext cx="1905120" cy="14335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60" name="TextBox 4"/>
          <p:cNvSpPr/>
          <p:nvPr/>
        </p:nvSpPr>
        <p:spPr>
          <a:xfrm>
            <a:off x="4648320" y="563868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self (Own work) [GFDL (http://www.gnu.org/copyleft/fdl.html) or CC-BY-SA-3.0 (http://creativecommons.org/licenses/by-sa/3.0/)], via Wikimedia Comm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What causes Feline </a:t>
            </a:r>
            <a:r>
              <a:rPr b="0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Acne?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???? UNKNOWN ??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 u="sng">
                <a:solidFill>
                  <a:srgbClr val="333399"/>
                </a:solidFill>
                <a:uFillTx/>
                <a:latin typeface="Arial"/>
              </a:rPr>
              <a:t>Factors appear to be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tr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lastic Bowl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uppressed Immune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oor Grooming Hab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resence of other Dise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C:\Users\intern\AppData\Local\Microsoft\Windows\Temporary Internet Files\Content.IE5\PNUNJFZ3\cat[1].png"/>
          <p:cNvPicPr/>
          <p:nvPr/>
        </p:nvPicPr>
        <p:blipFill>
          <a:blip r:embed="rId1"/>
          <a:stretch/>
        </p:blipFill>
        <p:spPr>
          <a:xfrm>
            <a:off x="457200" y="2819520"/>
            <a:ext cx="2022480" cy="1668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C:\Users\intern\AppData\Local\Microsoft\Windows\Temporary Internet Files\Content.IE5\D9QQBE06\2402631743_616b9ddaa8[1].jpg"/>
          <p:cNvPicPr/>
          <p:nvPr/>
        </p:nvPicPr>
        <p:blipFill>
          <a:blip r:embed="rId2"/>
          <a:stretch/>
        </p:blipFill>
        <p:spPr>
          <a:xfrm>
            <a:off x="7086600" y="3505320"/>
            <a:ext cx="99072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What are the treatments </a:t>
            </a:r>
            <a:r>
              <a:rPr b="0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for Feline Acn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3818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ere is NO 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hampoo with Benzoyl Peroxide-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Removes o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opical Vitamin A-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rrit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ral Retinoid such a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sotretinoin/Accutane –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Works Very Well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ARNING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54"/>
          <p:cNvSpPr/>
          <p:nvPr/>
        </p:nvSpPr>
        <p:spPr>
          <a:xfrm>
            <a:off x="3267360" y="6172200"/>
            <a:ext cx="29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acne.org/accutane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Possible Side Effects from </a:t>
            </a:r>
            <a:r>
              <a:rPr b="1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Isotretinoi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523880" y="35809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d De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earing &amp; Vision Probl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or Joint &amp; Muscle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9"/>
          <p:cNvSpPr/>
          <p:nvPr/>
        </p:nvSpPr>
        <p:spPr>
          <a:xfrm>
            <a:off x="685800" y="2590920"/>
            <a:ext cx="2438280" cy="5806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side effects can occur in all mamm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C:\Users\intern\AppData\Local\Microsoft\Windows\Temporary Internet Files\Content.IE5\D9QQBE06\large-Warning-sign-166.6-15248[1].gif"/>
          <p:cNvPicPr/>
          <p:nvPr/>
        </p:nvPicPr>
        <p:blipFill>
          <a:blip r:embed="rId1"/>
          <a:stretch/>
        </p:blipFill>
        <p:spPr>
          <a:xfrm>
            <a:off x="4038480" y="2286000"/>
            <a:ext cx="200844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arning About Isotretinoin and Birth 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Defec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2971800" y="32004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 to watch news cl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2265840" y="6400800"/>
            <a:ext cx="457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video.google.com/videoplay?docid=-9921921512339190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C:\Users\intern\AppData\Local\Microsoft\Windows\Temporary Internet Files\Content.IE5\PNUNJFZ3\warning-sign-exclamation-mark-triangle-5769-large[1].png"/>
          <p:cNvPicPr/>
          <p:nvPr/>
        </p:nvPicPr>
        <p:blipFill>
          <a:blip r:embed="rId1"/>
          <a:stretch/>
        </p:blipFill>
        <p:spPr>
          <a:xfrm>
            <a:off x="3352680" y="3733920"/>
            <a:ext cx="225756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0T15:08:43Z</dcterms:created>
  <dc:creator>Jennifer Bausch</dc:creator>
  <dc:description/>
  <dc:language>en-US</dc:language>
  <cp:lastModifiedBy>intern</cp:lastModifiedBy>
  <dcterms:modified xsi:type="dcterms:W3CDTF">2016-01-20T21:16:08Z</dcterms:modified>
  <cp:revision>8</cp:revision>
  <dc:subject/>
  <dc:title>Facts About Feline Acne</dc:title>
</cp:coreProperties>
</file>