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B81-3C7A-4158-A541-6459D118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6DD6-C075-4EEA-81EA-A1B887118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testing is very controversial, canaries are no longer taken into coal m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rats and other animals are used in lab settings to tell us if products are sa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a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163B-68BA-464F-8147-0BC2F427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, water, shelter,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1BCD-10AE-4725-B6E9-057ABA48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is is a drastic example of what can happen – thousands of Chinese babies d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one of our basic needs is contamin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can possibly get s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long term environmental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conomy suffers – what would happen if your shampoo made people si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B65A-208F-4C7A-825E-E5B52701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SLS is not deadly, but other allegations have been rais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9534-4379-4988-9298-EF1F9FDD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ensure that our shampoo is as safe as possible and that it wor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so want to ensure that our shampoo will not hurt plant &amp; animals in our natural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we do to check the aff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4822-82CF-4253-A37D-47DCABB3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can also be used to bioa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 food, water, shelter, and air (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to survive – similar to hu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use lettuce seeds to determine if SLS is tox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we’re going to see how different concentrations affect pla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093E-FD86-42C0-96E4-A4EF46086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EF0-3B31-4379-823F-92BDA682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142-FFD9-4AA9-B85A-10AD3D5C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49C-20A3-44A3-BB3E-F5B8161E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B6C-EF1B-49AE-B02D-233D2B56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2E3A-6B74-4959-8176-62F9C740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528D-5CD5-434F-BB88-3536599C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EECD-56C4-48CE-8933-639CB920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95E4-939A-4F40-AF3F-4CE1E3C8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86DF-5889-44EB-8EA8-5B684A59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A434-D9A6-422F-AB08-2DE022A3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D9A-14C8-4DF2-BFD0-CBB6AF0F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7BA-8458-46A7-ABCC-0E82EA41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7AAC-B457-4FFA-B5D2-210082DF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12FE-3775-4D4A-831B-4D4D97D3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9880-9223-4B19-A557-EF23A76D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6312-06D0-4E8F-B24E-E0F2CE71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CA13-1F55-4D1A-981D-253FEAD3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B0F0-C478-4A51-B8CC-88428334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88DC-52F5-4DDF-96EE-DE4DEDFC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51B5-FD94-44CE-B9E5-8A83EBC2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2101-A947-44AD-A881-EAEAC465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43566-C456-41AC-A80B-F167F60A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D46-FF83-4E64-BED9-2E5C9C0E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1519-A6A5-44F6-BBB1-9D01D0D9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40E9-23B3-48D3-B3B3-2ECE20A5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3C72-AB54-4666-915F-C755BE5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0A59-4551-4F86-B270-CF41064A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81E8-1B7E-4DBF-9168-C3E6CFDB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845D-2047-445A-A17D-78A7C750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7EFB-D6BD-4F5E-8FF7-377CCF0F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29FD-B799-44E2-B8EB-B65287BD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E1AF-08B6-48DA-97CE-B7A30B09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2433-EA27-40E7-A24D-AB2D74A5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64B-E1C8-45FC-9AD6-7CC08908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5DF5-C227-4DBC-B03C-5A168BE9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CC241-D503-4023-9230-7440794F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44F78-E5FB-4703-9A4D-38282B1D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B1DA-7CEE-4F42-8096-142A33F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5B43-470C-4FDF-AC46-EBD4622D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4D350-09DD-4306-AC12-3303277F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2A5AB-E709-4D1B-A39C-9DE0F94A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BBE7-39EC-453D-A186-3B920EBF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E776-4B05-422D-A292-EBDC56F8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335-1720-4BAF-815B-4FA89020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A17-3EDC-445D-9CC1-07BEF3CC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07F-D4EE-49F0-B3BB-2214DD6E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9C0-A162-439B-8ABE-CD04143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925-9086-43BA-A4B1-60F040A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4707-CE85-4CEA-82B1-BE4AB89475A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1DC4-133F-48A3-92D6-68528060B66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9C29-F3A0-4A4F-BD4E-B1B532C7A9D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5BF-15AD-4315-BB20-A8A30FD7CE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9960" y="38606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as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95280" y="4508280"/>
            <a:ext cx="619272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Use of a biological organisms to test for chemical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http://www.theodoresworld.net/pics/0607/lettuceImage1.jpg"/>
          <p:cNvPicPr/>
          <p:nvPr/>
        </p:nvPicPr>
        <p:blipFill>
          <a:blip r:embed="rId2"/>
          <a:stretch/>
        </p:blipFill>
        <p:spPr>
          <a:xfrm>
            <a:off x="1979640" y="1628640"/>
            <a:ext cx="12016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of bioa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anary in a Coal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anaries used to be taken down mine sh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y’re sensitive to m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f the canary died, it meant the air supply was contaminated and the humans go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http://modernartobsession.blogs.com/photos/uncategorized/2008/02/14/coalmine_canary_coal_cartoon_drawin.jpg"/>
          <p:cNvPicPr/>
          <p:nvPr/>
        </p:nvPicPr>
        <p:blipFill>
          <a:blip r:embed="rId2"/>
          <a:stretch/>
        </p:blipFill>
        <p:spPr>
          <a:xfrm>
            <a:off x="2700360" y="4221000"/>
            <a:ext cx="3672000" cy="2505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andygonsalves.com/design/color_design/threadless/canaryinthecoalmine.gif"/>
          <p:cNvPicPr/>
          <p:nvPr/>
        </p:nvPicPr>
        <p:blipFill>
          <a:blip r:embed="rId3"/>
          <a:stretch/>
        </p:blipFill>
        <p:spPr>
          <a:xfrm>
            <a:off x="6175440" y="260280"/>
            <a:ext cx="24764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http://www.interiordesign.net/articles/blog/1860000586/20090601/basicneeds.jpg"/>
          <p:cNvPicPr/>
          <p:nvPr/>
        </p:nvPicPr>
        <p:blipFill>
          <a:blip r:embed="rId2"/>
          <a:stretch/>
        </p:blipFill>
        <p:spPr>
          <a:xfrm>
            <a:off x="2340000" y="836640"/>
            <a:ext cx="4619520" cy="342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http://tiki.oneworld.net/food/food_title.jpg"/>
          <p:cNvPicPr/>
          <p:nvPr/>
        </p:nvPicPr>
        <p:blipFill>
          <a:blip r:embed="rId3"/>
          <a:stretch/>
        </p:blipFill>
        <p:spPr>
          <a:xfrm>
            <a:off x="684360" y="4365720"/>
            <a:ext cx="1576080" cy="120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http://www.mynewsletterbuilder.com/ex/template_content_corner/ex110/images/water.jpg"/>
          <p:cNvPicPr/>
          <p:nvPr/>
        </p:nvPicPr>
        <p:blipFill>
          <a:blip r:embed="rId4"/>
          <a:stretch/>
        </p:blipFill>
        <p:spPr>
          <a:xfrm>
            <a:off x="2627280" y="436572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http://www.survival-homestead.com/images/shelter-leanto.jpg"/>
          <p:cNvPicPr/>
          <p:nvPr/>
        </p:nvPicPr>
        <p:blipFill>
          <a:blip r:embed="rId5"/>
          <a:stretch/>
        </p:blipFill>
        <p:spPr>
          <a:xfrm>
            <a:off x="4427640" y="4438800"/>
            <a:ext cx="172872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http://www.cyclonepro.com/clean_air_blow.jpg"/>
          <p:cNvPicPr/>
          <p:nvPr/>
        </p:nvPicPr>
        <p:blipFill>
          <a:blip r:embed="rId6"/>
          <a:stretch/>
        </p:blipFill>
        <p:spPr>
          <a:xfrm>
            <a:off x="6588000" y="4375080"/>
            <a:ext cx="18208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http://t2.gstatic.com/images?q=tbn:ANd9GcSEfqtWwjZ9T-61B7C18-qMVYsRtp9wir5LfNLhJprphbuJecA&amp;t=1&amp;usg=__sxKLUj2lH_UlPyZh6VQtfs_gWUw="/>
          <p:cNvPicPr/>
          <p:nvPr/>
        </p:nvPicPr>
        <p:blipFill>
          <a:blip r:embed="rId2"/>
          <a:srcRect l="6072" t="0" r="8925" b="0"/>
          <a:stretch/>
        </p:blipFill>
        <p:spPr>
          <a:xfrm>
            <a:off x="900000" y="260280"/>
            <a:ext cx="2016360" cy="1924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China: tainted milk powder scand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2276280"/>
            <a:ext cx="8748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than 300,000 infants were made ill from milk powder contaminated with mela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lamine: industrial chemical = make plastics &amp; fertilis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lamine indicates a higher apparent protein content but can cause kidney stones and kidney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0 tonnes (approx. 240,000 gallons) made and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http://www.chinasmack.com/wp-content/uploads/2009/01/chinese-baby-boy-helping-migrant-workers-return-home-chinese-new-year.jpg"/>
          <p:cNvPicPr/>
          <p:nvPr/>
        </p:nvPicPr>
        <p:blipFill>
          <a:blip r:embed="rId3"/>
          <a:stretch/>
        </p:blipFill>
        <p:spPr>
          <a:xfrm>
            <a:off x="3708360" y="4941720"/>
            <a:ext cx="2475000" cy="16495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3"/>
          <p:cNvSpPr/>
          <p:nvPr/>
        </p:nvSpPr>
        <p:spPr>
          <a:xfrm>
            <a:off x="468360" y="6581880"/>
            <a:ext cx="78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news.bbc.co.uk/2/hi/asia-pacific/8375638.s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://www.girlsustainable.com/files/2008/06/bubbles.large.jpg"/>
          <p:cNvPicPr/>
          <p:nvPr/>
        </p:nvPicPr>
        <p:blipFill>
          <a:blip r:embed="rId2"/>
          <a:stretch/>
        </p:blipFill>
        <p:spPr>
          <a:xfrm>
            <a:off x="2268360" y="1916280"/>
            <a:ext cx="4762800" cy="35715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971640" y="620640"/>
            <a:ext cx="72007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Sodium Lauryl Sulfate is not deadly or even extremely tox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test how safe it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w can we best meet the 12 Principles of Green Chemist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Diagram 6" descr=""/>
          <p:cNvPicPr/>
          <p:nvPr/>
        </p:nvPicPr>
        <p:blipFill>
          <a:blip r:embed="rId2"/>
          <a:stretch/>
        </p:blipFill>
        <p:spPr>
          <a:xfrm>
            <a:off x="1463760" y="1517760"/>
            <a:ext cx="621180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http://www.theodoresworld.net/pics/0607/lettuceImage1.jpg"/>
          <p:cNvPicPr/>
          <p:nvPr/>
        </p:nvPicPr>
        <p:blipFill>
          <a:blip r:embed="rId2"/>
          <a:stretch/>
        </p:blipFill>
        <p:spPr>
          <a:xfrm>
            <a:off x="1979640" y="1628640"/>
            <a:ext cx="1201680" cy="1494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http://www.regional.org.au/au/allelopathy/2005/2/3/2576_fujiiy-1.gif"/>
          <p:cNvPicPr/>
          <p:nvPr/>
        </p:nvPicPr>
        <p:blipFill>
          <a:blip r:embed="rId3"/>
          <a:stretch/>
        </p:blipFill>
        <p:spPr>
          <a:xfrm>
            <a:off x="1908000" y="3357720"/>
            <a:ext cx="5905800" cy="30938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2411280" y="1413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ass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2:26:39Z</dcterms:created>
  <dc:creator>Mediac</dc:creator>
  <dc:description/>
  <dc:language>en-US</dc:language>
  <cp:lastModifiedBy>carson</cp:lastModifiedBy>
  <dcterms:modified xsi:type="dcterms:W3CDTF">2010-08-16T21:53:06Z</dcterms:modified>
  <cp:revision>10</cp:revision>
  <dc:subject/>
  <dc:title>PRESENTATION  NAME</dc:title>
</cp:coreProperties>
</file>