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4B0C-697D-4FCF-8410-DDFFA6558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969-ED91-47D2-BB13-971B39B2D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360-C526-4DA1-B311-97437D56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075-4955-4F3D-B0B0-159AB0DBB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897-9FF2-4368-B9B4-C3E37DBF7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D24-0718-47D4-B037-A810B3138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cholera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9EE-1AE0-4330-AF7C-8D3AB8476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85B-DAF5-481D-8256-856BBFA92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E27-7932-4F94-AF1E-E4869A8E0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08C-002F-4956-BCDA-0421546B1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8F5-E00A-45ED-B35B-697602C35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2E9-F140-4457-BB47-CB5ED4615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E32-B2FC-4177-BDB7-926DE5BEC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5689-D3BC-414C-B80C-C661E5982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A4B-D0F0-4FDD-9A03-669C555D4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5AE-1BBC-4309-AB49-F3D974F1B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015-171D-4836-B91A-50796E4BC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BFB-AE20-432E-A479-D19505D1C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B21-3323-463B-A519-EA414EAC4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213-68A7-4469-9DAA-CFB2D36F6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092-24A1-4252-BADA-741D3D636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501-7C76-4ABD-B2C3-28B459FD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056-6209-45F7-B2CF-85672F9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AE0-4F9D-4A1B-BDE6-7486012A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7B-06C3-43C7-BD54-68FFA8E7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0AD-D491-4165-8EE8-767D86E4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AC9-D728-431E-B169-337EC089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D5D-E221-4F7E-BD31-38572AA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AD7-60FD-475E-A575-C7304E28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47E-A02E-4D66-BB33-D6578FA8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5EE-3380-4828-A56E-FBB7701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09B-D269-4510-B9F6-C26BCD4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E36-A57D-4D1B-B0F2-F813215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C63-1C63-43FD-9F2A-7AB211787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s://upload.wikimedia.org/wikipedia/commons/3/32/GGB_refracts_in_rain_dropletes_original_1.JPG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66680" y="36576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Water Wisdo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90720" y="5029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ocken Inaglory (Own work) [CC BY-SA 3.0 (http://creativecommons.org/licenses/by-sa/3.0)], via Wikimedia Comm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43600" y="25142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intern\AppData\Local\Microsoft\Windows\Temporary Internet Files\Content.IE5\0DIWABEP\dead_fish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39290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ercentage of America’s lakes are too polluted for fishing, swimming, or aquatic lif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ttp://www.travelguide-en.org/wordpress/wp-content/uploads/2013/12/Pray-Lake-Glacier-National-Park-Montana-Stati-Uniti.-Author-David-Restivo-NPS.-Licensed-under-the-Creative-Commons-Attribution.jpg"/>
          <p:cNvPicPr/>
          <p:nvPr/>
        </p:nvPicPr>
        <p:blipFill>
          <a:blip r:embed="rId1"/>
          <a:stretch/>
        </p:blipFill>
        <p:spPr>
          <a:xfrm>
            <a:off x="1676520" y="2133720"/>
            <a:ext cx="5724360" cy="42861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429000" y="6427800"/>
            <a:ext cx="327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uthor David Restivo, NPS. Licensed under the Creative Commons Attribu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Users\intern\AppData\Local\Microsoft\Windows\Temporary Internet Files\Content.IE5\1GNPCDUU\pond-312465_640[1].png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3047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190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ution of freshwater (drinking water) is a problem for about half of the world's population. How many people do you think are affected by water related diseases each yea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intern\AppData\Local\Microsoft\Windows\Temporary Internet Files\Content.IE5\PNUNJFZ3\large-drinking-glass-cup-with-red-punch-0-15676[1].gif"/>
          <p:cNvPicPr/>
          <p:nvPr/>
        </p:nvPicPr>
        <p:blipFill>
          <a:blip r:embed="rId1"/>
          <a:stretch/>
        </p:blipFill>
        <p:spPr>
          <a:xfrm>
            <a:off x="3809880" y="0"/>
            <a:ext cx="17798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0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tcktcktck.org/wp-content/uploads/2011/09/tck-belgium-bacteria.jpg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752480" y="4572000"/>
            <a:ext cx="579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ative Commons: Betacommand Bo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Name the top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haroni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causes of water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219320" y="175248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tili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il and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and industri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sonal care products, cleaning products and household pharmaceut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w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3504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% of the medicines you take pass through your body unalte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we use over the sink or in water in our households goes down the drai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farming operations that use growth hormones and antibiotics also send large quantities of these chemicals into our waters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C:\Users\intern\AppData\Local\Microsoft\Windows\Temporary Internet Files\Content.IE5\1GNPCDUU\tablets-309742_640[1].png"/>
          <p:cNvPicPr/>
          <p:nvPr/>
        </p:nvPicPr>
        <p:blipFill>
          <a:blip r:embed="rId1"/>
          <a:stretch/>
        </p:blipFill>
        <p:spPr>
          <a:xfrm>
            <a:off x="838080" y="304920"/>
            <a:ext cx="1719360" cy="178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intern\AppData\Local\Microsoft\Windows\Temporary Internet Files\Content.IE5\D9QQBE06\Bar-Soap[1].png"/>
          <p:cNvPicPr/>
          <p:nvPr/>
        </p:nvPicPr>
        <p:blipFill>
          <a:blip r:embed="rId2"/>
          <a:stretch/>
        </p:blipFill>
        <p:spPr>
          <a:xfrm>
            <a:off x="685800" y="2362320"/>
            <a:ext cx="1609560" cy="1038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Users\intern\AppData\Local\Microsoft\Windows\Temporary Internet Files\Content.IE5\0DIWABEP\Cow_cartoon_04.svg[1].png"/>
          <p:cNvPicPr/>
          <p:nvPr/>
        </p:nvPicPr>
        <p:blipFill>
          <a:blip r:embed="rId3"/>
          <a:stretch/>
        </p:blipFill>
        <p:spPr>
          <a:xfrm>
            <a:off x="0" y="3657600"/>
            <a:ext cx="2666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t waste water plants are not equipped to filter out personal care products, pharmaceuticals and cleaning produ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www.mintpressnews.com/wp-content/uploads/2014/02/wipp_13.jpg"/>
          <p:cNvPicPr/>
          <p:nvPr/>
        </p:nvPicPr>
        <p:blipFill>
          <a:blip r:embed="rId1"/>
          <a:stretch/>
        </p:blipFill>
        <p:spPr>
          <a:xfrm>
            <a:off x="533520" y="3124080"/>
            <a:ext cx="7619760" cy="22957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533520" y="55627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: Wikimedia / Creative Comm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Scientists are finding cancer causing fragrance molecules inside fish tissues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Ingredients from birth control pills are thought to be causing gender-altering hormonal effects in frogs and fish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The chemical nonylphenol, a remnant of detergent, is known to disrupt fish reproduction and growth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057400" y="5486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ffects are known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74320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OCRINE DISRU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C:\Users\intern\AppData\Local\Microsoft\Windows\Temporary Internet Files\Content.IE5\PNUNJFZ3\large-Fish-166.6-7183[1].gif"/>
          <p:cNvPicPr/>
          <p:nvPr/>
        </p:nvPicPr>
        <p:blipFill>
          <a:blip r:embed="rId1"/>
          <a:stretch/>
        </p:blipFill>
        <p:spPr>
          <a:xfrm>
            <a:off x="6330960" y="304920"/>
            <a:ext cx="281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fish are in trou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ght we be in trouble to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1911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humans endocrine disruptors are thought to lead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aded immune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impair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in some types of ca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intern\AppData\Local\Microsoft\Windows\Temporary Internet Files\Content.IE5\1GNPCDUU\shocking[1].jpg"/>
          <p:cNvPicPr/>
          <p:nvPr/>
        </p:nvPicPr>
        <p:blipFill>
          <a:blip r:embed="rId1"/>
          <a:stretch/>
        </p:blipFill>
        <p:spPr>
          <a:xfrm>
            <a:off x="3352680" y="1676520"/>
            <a:ext cx="26812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01 percent of all water on the planet is freshwater that can be used by humans and ecosystems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intern\AppData\Local\Microsoft\Windows\Temporary Internet Files\Content.IE5\0DIWABEP\Hello-World-earth[1].png"/>
          <p:cNvPicPr/>
          <p:nvPr/>
        </p:nvPicPr>
        <p:blipFill>
          <a:blip r:embed="rId1"/>
          <a:stretch/>
        </p:blipFill>
        <p:spPr>
          <a:xfrm>
            <a:off x="2514600" y="2590920"/>
            <a:ext cx="3922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for this PowerPoint was taken from the websites of th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lorado River Water Conservation District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ite and from th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ted Nations Report on Global water Re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ess the amount of human waste, in pounds, entering global watercourses each day, according to the U.N.’s World Water Assessment Program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intern\AppData\Local\Microsoft\Windows\Temporary Internet Files\Content.IE5\1GNPCDUU\toilet-34071_640[1].png"/>
          <p:cNvPicPr/>
          <p:nvPr/>
        </p:nvPicPr>
        <p:blipFill>
          <a:blip r:embed="rId1"/>
          <a:stretch/>
        </p:blipFill>
        <p:spPr>
          <a:xfrm>
            <a:off x="6172200" y="1295280"/>
            <a:ext cx="2590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.4 billion poun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209680" y="1143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b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59 m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4 b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bradfitzpatrick.com/store/images/products/thumbs/ee004-cartoon-poop-clipart.jpg"/>
          <p:cNvPicPr/>
          <p:nvPr/>
        </p:nvPicPr>
        <p:blipFill>
          <a:blip r:embed="rId1"/>
          <a:stretch/>
        </p:blipFill>
        <p:spPr>
          <a:xfrm>
            <a:off x="6629400" y="304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bradfitzpatrick.com/store/images/products/thumbs/ee004-cartoon-poop-clipart.jpg"/>
          <p:cNvPicPr/>
          <p:nvPr/>
        </p:nvPicPr>
        <p:blipFill>
          <a:blip r:embed="rId2"/>
          <a:stretch/>
        </p:blipFill>
        <p:spPr>
          <a:xfrm>
            <a:off x="5791320" y="266688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bradfitzpatrick.com/store/images/products/thumbs/ee004-cartoon-poop-clipart.jpg"/>
          <p:cNvPicPr/>
          <p:nvPr/>
        </p:nvPicPr>
        <p:blipFill>
          <a:blip r:embed="rId3"/>
          <a:stretch/>
        </p:blipFill>
        <p:spPr>
          <a:xfrm>
            <a:off x="6324480" y="1295280"/>
            <a:ext cx="1650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minimum amount of water, in gallons, required to produce a day’s worth of food for one person in the United State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intern\AppData\Local\Microsoft\Windows\Temporary Internet Files\Content.IE5\D9QQBE06\food[1].png"/>
          <p:cNvPicPr/>
          <p:nvPr/>
        </p:nvPicPr>
        <p:blipFill>
          <a:blip r:embed="rId1"/>
          <a:stretch/>
        </p:blipFill>
        <p:spPr>
          <a:xfrm>
            <a:off x="4419720" y="3873600"/>
            <a:ext cx="4724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pound of rice takes about 240 gallons of wate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,680 gallons go into creating one pound of grain-fed beef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66688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28 Gall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intern\AppData\Local\Microsoft\Windows\Temporary Internet Files\Content.IE5\PNUNJFZ3\12456948171194366574johnny_automatic_bowl_of_rice.svg.med[1].png"/>
          <p:cNvPicPr/>
          <p:nvPr/>
        </p:nvPicPr>
        <p:blipFill>
          <a:blip r:embed="rId1"/>
          <a:stretch/>
        </p:blipFill>
        <p:spPr>
          <a:xfrm>
            <a:off x="380880" y="380880"/>
            <a:ext cx="2819520" cy="228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intern\AppData\Local\Microsoft\Windows\Temporary Internet Files\Content.IE5\0DIWABEP\food-meat[1].png"/>
          <p:cNvPicPr/>
          <p:nvPr/>
        </p:nvPicPr>
        <p:blipFill>
          <a:blip r:embed="rId2"/>
          <a:stretch/>
        </p:blipFill>
        <p:spPr>
          <a:xfrm>
            <a:off x="5943600" y="1066680"/>
            <a:ext cx="27432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s://biofreshblog.files.wordpress.com/2013/02/orinoco-river.jpg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many gallons of untreated sewage, storm water, and industrial waste are discharged into US waters annuall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286000" y="365760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 tr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0 thou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 flipH="1">
            <a:off x="5562000" y="5638680"/>
            <a:ext cx="64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alibri"/>
              </a:rPr>
              <a:t>Orinoco river. Photo: Creative Common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04960" y="27428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2 trillio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.S. Government fears that discharge levels will soon rival those prior to regulations in the 197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A view of the Hudson River in the fall."/>
          <p:cNvPicPr/>
          <p:nvPr/>
        </p:nvPicPr>
        <p:blipFill>
          <a:blip r:embed="rId1"/>
          <a:stretch/>
        </p:blipFill>
        <p:spPr>
          <a:xfrm>
            <a:off x="304920" y="228600"/>
            <a:ext cx="403524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04920" y="2971800"/>
            <a:ext cx="441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Photo: Roy Saplin, Creative Commons Attribution-NonCommercial 2.0 Generic Licens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ercentage of America's rivers are too polluted for fishing, swimming, or aquatic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C:\Users\intern\AppData\Local\Microsoft\Windows\Temporary Internet Files\Content.IE5\0DIWABEP\fishing-309564_640[1].png"/>
          <p:cNvPicPr/>
          <p:nvPr/>
        </p:nvPicPr>
        <p:blipFill>
          <a:blip r:embed="rId1"/>
          <a:stretch/>
        </p:blipFill>
        <p:spPr>
          <a:xfrm>
            <a:off x="457200" y="3429000"/>
            <a:ext cx="2590920" cy="25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intern\AppData\Local\Microsoft\Windows\Temporary Internet Files\Content.IE5\PNUNJFZ3\large-Happy-fish-166.6-9684[1].gif"/>
          <p:cNvPicPr/>
          <p:nvPr/>
        </p:nvPicPr>
        <p:blipFill>
          <a:blip r:embed="rId2"/>
          <a:stretch/>
        </p:blipFill>
        <p:spPr>
          <a:xfrm>
            <a:off x="3581280" y="3886200"/>
            <a:ext cx="2318040" cy="173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C:\Users\intern\AppData\Local\Microsoft\Windows\Temporary Internet Files\Content.IE5\D9QQBE06\swimming[1].jpg"/>
          <p:cNvPicPr/>
          <p:nvPr/>
        </p:nvPicPr>
        <p:blipFill>
          <a:blip r:embed="rId3"/>
          <a:stretch/>
        </p:blipFill>
        <p:spPr>
          <a:xfrm>
            <a:off x="6477120" y="3581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9:00:25Z</dcterms:created>
  <dc:creator>Rachel1</dc:creator>
  <dc:description/>
  <dc:language>en-US</dc:language>
  <cp:lastModifiedBy>intern</cp:lastModifiedBy>
  <dcterms:modified xsi:type="dcterms:W3CDTF">2016-01-07T19:51:02Z</dcterms:modified>
  <cp:revision>17</cp:revision>
  <dc:subject/>
  <dc:title>Slide 1</dc:title>
</cp:coreProperties>
</file>